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C69A-9A95-4351-A41A-AD63EB1D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86C-18DA-462A-B580-96EF98AB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791-E973-49D0-9948-9A0C0245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4FC7-740C-4D2A-82A6-86BE7604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6C56-CB2A-4CE2-BEC1-F92749E8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BF05-C38E-4B0B-8B72-B806EC4F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0A25-1D60-4206-A45B-9280AACA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C597-7D1C-448C-B186-28511BD3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A83B-A988-4605-9937-6229B03A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578D-5244-4F69-B971-B898162D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D634-DA63-4938-A115-87068A29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8F2-D8C0-495E-A5E8-E4171CCB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E83A-B324-4503-A9A5-67111DA2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EB07-0771-4C01-B579-3E91380F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4E16-7E40-4AEF-BAFA-798457A2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970C-F92C-411A-9408-D01A259F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1286-9CF1-4FE2-B5AF-823A611B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A66E-D2F1-4F3D-8D4D-4D45D87E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4A12-3237-48CE-8C36-BE97AAB5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0DF9-1500-4103-93B3-01533E07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D352-4956-4D31-9993-0DBBE15D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FA55-B8D8-4D12-8B82-C83877F1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0347-C7B3-4269-A3A5-BD7056EB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F70-F27E-4B74-823F-9306F565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29C1-4A50-45F4-8171-6F684F51A1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850B-D667-45D7-A60E-1C2D7438A9D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1ba0"/>
                </a:solidFill>
                <a:latin typeface="Arial"/>
              </a:rPr>
              <a:t>Grupa nr. 3 : 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1ba0"/>
                </a:solidFill>
                <a:latin typeface="Arial"/>
              </a:rPr>
              <a:t>                       </a:t>
            </a:r>
            <a:r>
              <a:rPr b="0" lang="en-US" sz="4000" spc="-1" strike="noStrike">
                <a:solidFill>
                  <a:srgbClr val="bf1ba0"/>
                </a:solidFill>
                <a:latin typeface="Arial"/>
              </a:rPr>
              <a:t>Cernau Laura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1ba0"/>
                </a:solidFill>
                <a:latin typeface="Arial"/>
              </a:rPr>
              <a:t>                       </a:t>
            </a:r>
            <a:r>
              <a:rPr b="0" lang="en-US" sz="4000" spc="-1" strike="noStrike">
                <a:solidFill>
                  <a:srgbClr val="bf1ba0"/>
                </a:solidFill>
                <a:latin typeface="Arial"/>
              </a:rPr>
              <a:t>Covaciu Beniamin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1ba0"/>
                </a:solidFill>
                <a:latin typeface="Arial"/>
              </a:rPr>
              <a:t>                             </a:t>
            </a:r>
            <a:r>
              <a:rPr b="0" lang="en-US" sz="4000" spc="-1" strike="noStrike">
                <a:solidFill>
                  <a:srgbClr val="bf1ba0"/>
                </a:solidFill>
                <a:latin typeface="Arial"/>
              </a:rPr>
              <a:t>Crisan Sergiu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ubul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6213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520d"/>
                </a:solidFill>
                <a:latin typeface="Arial"/>
              </a:rPr>
              <a:t>Este corpul geometric care are toate fetele patrate congruent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Picture 7" descr="Cubul"/>
          <p:cNvPicPr/>
          <p:nvPr/>
        </p:nvPicPr>
        <p:blipFill>
          <a:blip r:embed="rId2"/>
          <a:stretch/>
        </p:blipFill>
        <p:spPr>
          <a:xfrm>
            <a:off x="380880" y="2174760"/>
            <a:ext cx="56390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495320" y="228600"/>
            <a:ext cx="4800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d9f"/>
                </a:solidFill>
                <a:latin typeface="Arial"/>
              </a:rPr>
              <a:t>Elementele cubului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d9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90d9f"/>
                </a:solidFill>
                <a:latin typeface="Arial"/>
              </a:rPr>
              <a:t>-2 baze patrate congruen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d9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90d9f"/>
                </a:solidFill>
                <a:latin typeface="Arial"/>
              </a:rPr>
              <a:t>-4 fete laterale patrate congruen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d9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90d9f"/>
                </a:solidFill>
                <a:latin typeface="Arial"/>
              </a:rPr>
              <a:t>-numarul muchiilor bazei :8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d9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90d9f"/>
                </a:solidFill>
                <a:latin typeface="Arial"/>
              </a:rPr>
              <a:t>-numarul muchiilor laterale: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5" descr="fără titlu"/>
          <p:cNvPicPr/>
          <p:nvPr/>
        </p:nvPicPr>
        <p:blipFill>
          <a:blip r:embed="rId2"/>
          <a:stretch/>
        </p:blipFill>
        <p:spPr>
          <a:xfrm>
            <a:off x="0" y="0"/>
            <a:ext cx="4419720" cy="358128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343040" y="228600"/>
            <a:ext cx="4800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1ba0"/>
                </a:solidFill>
                <a:latin typeface="Arial"/>
              </a:rPr>
              <a:t>Elemente calculabile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f1ba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1ba0"/>
                </a:solidFill>
                <a:latin typeface="Arial"/>
              </a:rPr>
              <a:t>Aria laterala A</a:t>
            </a:r>
            <a:r>
              <a:rPr b="0" lang="en-US" sz="2000" spc="-1" strike="noStrike">
                <a:solidFill>
                  <a:srgbClr val="bf1ba0"/>
                </a:solidFill>
                <a:latin typeface="Arial"/>
              </a:rPr>
              <a:t>l=</a:t>
            </a:r>
            <a:r>
              <a:rPr b="0" lang="en-US" sz="3200" spc="-1" strike="noStrike">
                <a:solidFill>
                  <a:srgbClr val="bf1ba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f1ba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1ba0"/>
                </a:solidFill>
                <a:latin typeface="Arial"/>
              </a:rPr>
              <a:t>Aria totala A</a:t>
            </a:r>
            <a:r>
              <a:rPr b="0" lang="en-US" sz="2000" spc="-1" strike="noStrike">
                <a:solidFill>
                  <a:srgbClr val="bf1ba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bf1ba0"/>
                </a:solidFill>
                <a:latin typeface="Arial"/>
              </a:rPr>
              <a:t>=6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f1ba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1ba0"/>
                </a:solidFill>
                <a:latin typeface="Arial"/>
              </a:rPr>
              <a:t>Volumul V=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f1ba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1ba0"/>
                </a:solidFill>
                <a:latin typeface="Arial"/>
              </a:rPr>
              <a:t>Diagonala d=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f1ba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1ba0"/>
                </a:solidFill>
                <a:latin typeface="Arial"/>
              </a:rPr>
              <a:t>Diagonala unei fete a cubului d</a:t>
            </a:r>
            <a:r>
              <a:rPr b="0" lang="en-US" sz="2000" spc="-1" strike="noStrike">
                <a:solidFill>
                  <a:srgbClr val="bf1ba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bf1ba0"/>
                </a:solidFill>
                <a:latin typeface="Arial"/>
              </a:rPr>
              <a:t>=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4" descr="fără titlu"/>
          <p:cNvPicPr/>
          <p:nvPr/>
        </p:nvPicPr>
        <p:blipFill>
          <a:blip r:embed="rId1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2"/>
          <a:stretch/>
        </p:blipFill>
        <p:spPr>
          <a:xfrm>
            <a:off x="7162920" y="3657600"/>
            <a:ext cx="457200" cy="5716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620120" y="2590920"/>
            <a:ext cx="428400" cy="5428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1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12" descr=""/>
          <p:cNvPicPr/>
          <p:nvPr/>
        </p:nvPicPr>
        <p:blipFill>
          <a:blip r:embed="rId4"/>
          <a:stretch/>
        </p:blipFill>
        <p:spPr>
          <a:xfrm>
            <a:off x="7162920" y="2057400"/>
            <a:ext cx="380880" cy="5716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14" descr=""/>
          <p:cNvPicPr/>
          <p:nvPr/>
        </p:nvPicPr>
        <p:blipFill>
          <a:blip r:embed="rId5"/>
          <a:stretch/>
        </p:blipFill>
        <p:spPr>
          <a:xfrm>
            <a:off x="7772400" y="1447920"/>
            <a:ext cx="380880" cy="5713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Picture 17" descr=""/>
          <p:cNvPicPr/>
          <p:nvPr/>
        </p:nvPicPr>
        <p:blipFill>
          <a:blip r:embed="rId6"/>
          <a:stretch/>
        </p:blipFill>
        <p:spPr>
          <a:xfrm>
            <a:off x="8001000" y="838080"/>
            <a:ext cx="380880" cy="5716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5088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520d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cd520d"/>
                </a:solidFill>
                <a:latin typeface="Arial"/>
              </a:rPr>
              <a:t>Matematica pentru evaluarea nationala” de Dumitru Savulescu, pagina 129,varianta 7, subiectul al treilea ,exercitiul 1 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520d"/>
                </a:solidFill>
                <a:latin typeface="Arial"/>
              </a:rPr>
              <a:t>Cubul ABCDA’B’C’D’ are lungimea muchiei de 20 de cm, M este mijlocul muchiei AB,iar O este centrul fetei BCC’B’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520d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cd520d"/>
                </a:solidFill>
                <a:latin typeface="Arial"/>
              </a:rPr>
              <a:t>a)Sa se calculeze aria totala a cubului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520d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cd520d"/>
                </a:solidFill>
                <a:latin typeface="Arial"/>
              </a:rPr>
              <a:t>b)Sa se calculeze cate cuburi incap intr-o cutie in forma de paralelipiped dreptunghic cu dimensiunile de 2m, 1,4m si 80 de cm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520d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cd520d"/>
                </a:solidFill>
                <a:latin typeface="Arial"/>
              </a:rPr>
              <a:t>c)Sa se calculeze distanta de la M la planul (ABC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520d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cd520d"/>
                </a:solidFill>
                <a:latin typeface="Arial"/>
              </a:rPr>
              <a:t>d)Sa se demonstreze ca D’O _l_ (COM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</cp:lastModifiedBy>
  <dcterms:modified xsi:type="dcterms:W3CDTF">2010-12-14T13:02:5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